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E836-1D14-4C10-A63F-950BF5AEA7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A28D-551F-480F-AEB3-A3C07A85FF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1DB6-C0B9-44BD-8A26-2629AB11178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630D-7993-46E8-BF6E-B8C77B01186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63DD-70A8-47B8-B9CB-36516B88C9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CD26-A34D-4495-8378-FC0E8A14855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E5BA-76D4-4C4F-980F-1D1B96D386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1522-9571-4772-B86F-6A6838111AE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837D-4B58-4FF9-A6E0-76153ECBEC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3957-B2C2-4756-899F-2FE55D9CE71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6E77-DD12-4538-9E20-C8EA843FA2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408F-1A00-4FE3-8819-1A78E61C0A0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BC51-3D0D-442F-A36B-7B86FE3029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회에 유익한 모든 일이 수익을 보장하지는 않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그 일을 통해 지속가능한 수익을 낳을 수 있는 시스템이 조성되어 있다면 그 유익한 일은 자연스럽게 계속될 수 있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누군가 일과 수익 사이의 선순환 고리를 만들어낸다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 합리적인 수익 모델을 만들어낸다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A26F-8564-42BF-8349-ECDDED5F0BF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9929-C58E-459C-BA32-D2F9A10F79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289D-9836-4A6D-B5BF-953CB0FBCF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504F-998E-445D-9395-9C2B9FFB496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F721-E89D-4F08-B596-CCBBA2B75B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A829-7F6A-47CE-926E-9C9F642683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9C85-2681-4AD9-9AB0-C29E49AA5D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91E9-30AC-492F-A19A-7FE2F4FA7B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791-43D8-4D90-8D95-42EBE024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180-E58E-41F7-9912-26EE3E70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3D9-C2EC-4FD2-9958-42EF6DF1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BBD-1EC3-4F8B-950A-E8A4B1BF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F31D-702E-4A29-BD0F-379D75BA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B423-E3AC-4942-A446-6C0D0258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8D86-4C82-4981-8A02-AACE2190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6871-4E5B-40D4-8CF5-0805E298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EDFC-55C6-4894-81C3-2A80E27B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27E7-979E-44F4-99DB-C459E01C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4350-0152-46B6-BE40-C7B7DDB6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66B-A814-4B5A-94DA-97AE9285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944A-7DBF-47EB-9013-ABF09075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70F8-53FC-49F8-9FC1-71764D28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E7B2-3FE9-42F0-93C9-AEF9B8B2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58B7-C4E6-4536-94C8-AA496EDB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E894-CA6B-43A7-A609-3A60C68F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9D72F-F3C6-4642-9AF4-F3A5B7FE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30588-4499-4199-BD3B-FE5DE03F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57775-86F1-45C1-9FE7-95A0D39E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3D3AC-86E9-4E6F-90A6-548CDE1A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5D3F2-2DEB-4E45-A1FB-5EE3368E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FE4-C535-4B06-8B64-8B66D80F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3D3D9-5E65-4D80-8C95-3C089BFA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D2AE4-3A19-4AB7-868E-AFBABD0C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8D95C-03B2-40A6-8963-C4B3DA60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6886A-1337-45E3-8AFB-619520D0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17325-465E-46F5-97C7-86CA074F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01615-8A57-43D9-974F-BBC1FFE7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E9E7C-DE95-45B7-A231-5A8D3E6D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D3596-BC0F-4AB9-8583-4A2E9345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047E4-AD3B-485F-9515-EB2AB205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A102E-8BFD-4C17-98A1-D11EDC3F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6E7-B645-47E7-9B21-AD159B26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48D7E-4474-4D37-A7A1-051E3F78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ABF00-6DD6-4031-BEF0-0E59DEF1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17677-BF35-4B07-A0A9-8BCA842F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FDC67-A76D-4934-BDA8-19CF9E9B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488BB-3D2A-4CB3-A276-EA052814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AE073-3666-4D41-9F1F-5A7FC82F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B6553-896F-4239-A090-E6D9498B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E0918-C815-4586-8DEF-7A146FC3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C3EBA-566C-443D-B177-5608BDA0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B31-067C-4B1A-9D87-7CEE93FB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321-8DA4-4FA4-BE45-B2C9E9B1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808-1053-4A25-9D3B-E0C4417B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50D-A94D-4926-9153-54C0CAE7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4B5-97EB-4C0D-B784-CA83FD77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85C0-1983-4ED6-B318-70DD706E1F75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A82A-6EAF-4D35-8A6A-30CB2AFA3F34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764F-B40E-4CE0-8A68-804E909C1EA1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06D9-845C-4667-B5CF-1A13E518865E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ct.jinbo.net/drupal/node/301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기술 개발에도 </a:t>
            </a:r>
            <a:br>
              <a:rPr sz="4400"/>
            </a:b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사회적 합의가 필요한가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현대 기술과 공학의 철학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1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2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숙의적 과정의 난점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간이 오래 걸리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한 번에 여러 사람이 함께 참여하기 어려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합의는 어려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실에서의 합의가 가능하더라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가치와 선호의 합의는 그보다 훨씬 어려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상충하는 가치의 문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재 가능한 기술로는 두 가지 가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, B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를 함께 실현할 수 없다는 사실을 합의할 경우의 문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, B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둘 중 더 중요한 가치를 실현하는 기술 선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더 중요한 가치를 어떻게 결정할 수 있는가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투표에 의한 사전 결정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vs.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시장에 의한 사후 결정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, B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두 조금씩 양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절충하여 타협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타협안에 어떻게 만족할 수 있는가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, B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두 실현할 수 있는 새로운 기술에 대한 연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지금 당장은 어떻게 하란 말인가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원리적으로 불가능한 경우는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사례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: S-Card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합의회의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(2003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act.jinbo.net/drupal/node/301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단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200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부터 서울대 대학본부와 서울대 생협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농협 등이 기존의 학생증에 현금카드와 교통카드 등의 기능을 첨가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-Card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로 전환하려고 시도했으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2003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까지 학생들과 갈등 반복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대학본부와 총학생회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공동 주최로 학생 패널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4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명과 이해당사자들 및 전문가 패널을 모아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6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17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일 합의회의 개최한 후 합의 결과 보고서 작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및 기자회견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-Card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합의회의의 결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해 당사자의 입장 상당부분 수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-Card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도입에 따른 생협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학본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농협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학생에게 돌아오는 이익 인정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-Card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 기존의 바코드나 마그네틱 카드보다 보안성이 좋으며 여러 장점이 있다는 점 인정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-Card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로의 일괄 통합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불가 합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학생증 정보의 관리주체는 농협이 될 수 없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신입생의 강제적 농협 계좌 개설은 개인의 정보통제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금융거래에 관한 선택권을 제한하는 프라이버시권 침해이므로 용납할 수 없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-Card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의 결말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서울대학교 대학본부는 합의회의 결과 존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학생증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경제카드의 일괄 통합 시도 중단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008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 신청 사이트의 문구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“ID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능 및 출입기능은 의무사항이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 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금융기능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신용카드 또는 체크카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은 선택사항입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합의회의 결과보고서에 있던 학생증의 주민번호 정보 제거 권고 실제로 이루어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ttp://cbe.snu.ac.kr/files/attach/images/390/811/005/s-card%ED%99%8D%EB%B3%B4%EC%9E%90%EB%A3%8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62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시장은 유익한 기술을 선택하는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윤 극대화에 도움이 되는 기술 선택 편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프리카의 말라리아는 왜 퇴치되지 않는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윤과 무관한 가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또는 장기적으로만 회수할 수 있는 가치는 저평가되는 경향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e.g.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환경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소외 받는 사람을 위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윤과 무관한 가치를 실현하기 위한 기술 운동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적정기술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r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중간기술 운동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학상점 운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주민으로부터 청탁 받은 연구 수행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노동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용자 참여 설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적정기술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r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중간기술 운동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에른스트 슈마허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&lt;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작은 것이 아름답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&gt; (197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거대 기술에 기반한 현대 경제 체제의 낭비 지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경제적으로는 효율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에너지 면에서는 비효율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정작 각 지역의 문화와 환경에 적합한 기술과 물건은 부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지역에 적합한 물건을 지역의 재료를 이용하여 만드는 소규모 제작 기술 필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역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폴 폴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부유한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0%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를 위해 공학설계자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90%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 일을 하고 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…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계의 수십억 고객들이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달러짜리 안경과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달러짜리 태양전지 손전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10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달러짜리 집을 바라고 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적정기술의 실제 사례들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T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-Lab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강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2003-)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한국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국경없는 과학기술연구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나눔과 기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2009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계 현지에 적합한 창의적 공학설계 수행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대생의 설계 훈련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계의 요구 해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수동세탁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탕수수 숯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등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2" descr="http://img.hani.co.kr/imgdb/resize/2010/0127/1264571625_6000395238_20100127.JPG"/>
          <p:cNvPicPr/>
          <p:nvPr/>
        </p:nvPicPr>
        <p:blipFill>
          <a:blip r:embed="rId1"/>
          <a:stretch/>
        </p:blipFill>
        <p:spPr>
          <a:xfrm>
            <a:off x="1187280" y="47149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img.hani.co.kr/imgdb/resize/2010/0127/1264571684_6000395234_20100127.JPG"/>
          <p:cNvPicPr/>
          <p:nvPr/>
        </p:nvPicPr>
        <p:blipFill>
          <a:blip r:embed="rId2"/>
          <a:stretch/>
        </p:blipFill>
        <p:spPr>
          <a:xfrm>
            <a:off x="4356000" y="4714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http://img.hani.co.kr/imgdb/resize/2010/0127/6000395239_20100127.JPG"/>
          <p:cNvPicPr/>
          <p:nvPr/>
        </p:nvPicPr>
        <p:blipFill>
          <a:blip r:embed="rId2"/>
          <a:stretch/>
        </p:blipFill>
        <p:spPr>
          <a:xfrm>
            <a:off x="-1168560" y="0"/>
            <a:ext cx="1048248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4"/>
          <p:cNvSpPr/>
          <p:nvPr/>
        </p:nvSpPr>
        <p:spPr>
          <a:xfrm>
            <a:off x="2987640" y="47628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물을 길어 나르는 큐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드럼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어린 아이라도 약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100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리터의 물을 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손쉽게 운반할 수 있게 설계돼 있다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질문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이 사회적으로 구성되고 선택되는 것이라면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별도의 사회적 합의가 필요한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의 사회적 구성론은 서로 다른 이해관계를 가진 다양한 관련 사회집단 사이의 협상과 타협을 통해 기술이 구성된다고 주장했을 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 협상과 타협이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회적 합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”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라고는 주장하지 않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의 구성에서 배제되는 사회집단도 존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이윤을 초월한 기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,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지속가능한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대부분 사회적 기금과 자원봉사 연구인력을 통해 운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만약 사회적 지원이 끊기면 운영 불가능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윤이 아닌 방식으로 대가를 받는 모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리눅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위키피디아의 기부 모델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적정 기술도 수익을 낳을 수 있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0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달러 노트북 프로젝트는 넷북의 동기 제공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오늘날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C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도 초기엔 일종의 적정기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간접적인 방식의 상호 이익 관계 형성 가능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외부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따뜻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지원으로만 지속된다면 한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생력 위한 자체의 수익 모델 창조 필요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위비 바이커의 형광등 사례 연구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고효율 형광등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고집적 형광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등 제조사에서 고효율 형광등 개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발전소 회사는 고효율 형광등의 판매가 전력 소비 감소를 초래할 것으로 우려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발전소 회사와 전등 제조사 사이의 합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고집적 형광등을 개발하기 전까지 고효율 형광등을 적극적으로 팔지 않기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함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윤 창출에 도움이 되지 않는 기술의 배제 경향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소비자라는 사회 그룹은 기술 구성 과정에서 배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질문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장에서 사회적으로 유익한 기술이 선택된다면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별도의 사회적 합의가 필요한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장을 통하지 않는 공공 기술 프로젝트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e.g.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청계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새만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4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강 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국가에 의한 기술 연구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개발 지원 문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장을 통해서 기술 선택이 이루어지지만 그 사회적 영향이 너무 큰 경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장에 의한 선택이 특정한 편향을 낫는다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공공적 성격의 현대 기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영향 범위 매우 포괄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때로는 시민의 동의나 사용 여부와 무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e.g.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쓰리마일 섬 원자력 발전소 사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도시 설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의 영향력은 소유권이나 사용의 범위보다 큼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일부 기술 연구개발은 국민들의 세금에 의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업이나 대학의 연구개발조차 국가 지원과 연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많은 나라에서는 정부 기관의 지원을 받은 연구 결과를 정부가 아닌 대학의 특허로 받을 수 있도록 허용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금의 사용에 대한 민주적 통제는 당연한 권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그러나 불필요한 권리 행사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데올로기로서의 기술결정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정 기술은 거스를 수 없는 시대의 숙명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세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우리가 할 일은 그에 적응하여 낙오되지 않는 것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은 사회적 협상의 결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필연적인 방향 없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전문가주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어려운 기술적 문제는 그에 대해 대처할 수 있는 전문가들이 판단과 결정을 내리는 것이 좋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민들은 비합리적이고 감정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민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지식의 중요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시민적 지식의 중요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제초제의 유해성에 대한 평가 사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학자들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교과서에 의존하여 위험하지 않다고 결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정확한 조건에서 생산되고 정확한 조건에서 사용되는 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학문헌에 따르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무런 문제 없다고 입장 수정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농장 노동자들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용에 관한 전문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정확한 사용조건 준수 불가능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함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교과서와 실험실에서 생산된 지식은 실제 사용과 관련된 모든 조건을 고려하지 못한 경우 많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정당성과 효과성의 상관관계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민주화된 사회의 경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절차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정당성을 획득한 정책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즉 민주적으로 결정된 정책이 실제로도 잘 집행되어 소기의 성과를 거둘 수 있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.g.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방사능 폐기물 처리장 부지 선정의 경우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애초에 환경주의자들의 주장은 국민들로부터 큰 지지를 받지 못했으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정부에 의해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강제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폐기물 처리장 부지가 부안으로 정해짐에 따라 국민들의 강한 반발에 부딪히게 되었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한동안 난항을 거친 후에야 주민투표를 통해 경주로 결정되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시민참여의 모델들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선호취합적 참여 모델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숙의적 참여 모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선호취합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투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청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청문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여론조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숙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규제협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합의회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민배심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민자문위원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포커스그룹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나리오워크샵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론조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숙의적 과정을 필요로 하는 참여 모델 특히 중요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문성이 요구되는 분야이므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실의 문제와 가치 및 선호의 문제 사이의 연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숙의 과정을 통한 가치 및 선호의 변경 가능성 전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예컨대 사실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방사능 폐기물 처리장의 유해성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)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에 대한 합의가 사안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처리장의 건설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유무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)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에 대한 선호도를 바꿀 수 있다는 기대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8:20:45Z</dcterms:created>
  <dc:creator>zolaist</dc:creator>
  <dc:description/>
  <dc:language>en-US</dc:language>
  <cp:lastModifiedBy>zolaist</cp:lastModifiedBy>
  <dcterms:modified xsi:type="dcterms:W3CDTF">2010-11-11T11:47:11Z</dcterms:modified>
  <cp:revision>55</cp:revision>
  <dc:subject/>
  <dc:title>기술 개발에도  사회적 합의가 필요한가?</dc:title>
</cp:coreProperties>
</file>